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2012-7594-49C0-A2B9-0F899915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954-0FF3-4EB0-8F5A-5D5392EB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1493-EEC5-4A59-B069-A58F7155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C8EF-3D31-48E3-AFD1-58EE9317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B5E-0A6A-43A7-8D13-C5F6109D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69E-0492-404E-9E3C-9C0241A6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3DBC-4717-4CF8-A46D-3C9AD07C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8A4-CCFA-4B9C-A7C1-4CDDFE13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1CB-A5AE-496E-AFF8-EE286B1E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EB7C-4D9E-4187-8EDF-6792175F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552F-E778-4F3A-A4C5-B51DCB18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AAD-08D8-4196-B133-4B357B4B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BC34-B785-4841-8F97-64FFDF7D9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 llamo ________ Clase 6NH (601)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a fecha es el 12 de septiem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opósito # 1: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ónde hablamos españ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z una lista de los países que hablan españ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6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1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2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7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2)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3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8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3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4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9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4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5)             10)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5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merica del Norte, Central y el Caribe Hispano-habl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320840"/>
            <a:ext cx="9144000" cy="5537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1143000" y="3733920"/>
            <a:ext cx="838080" cy="990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048120" y="4952880"/>
            <a:ext cx="1295280" cy="228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885840" y="5334120"/>
            <a:ext cx="76212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4723920" y="3276720"/>
            <a:ext cx="83844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105160" y="4648320"/>
            <a:ext cx="152280" cy="380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333760" y="5181480"/>
            <a:ext cx="68580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648320" y="6095880"/>
            <a:ext cx="76176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171840" y="5867280"/>
            <a:ext cx="76212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43800" y="28954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4572000"/>
            <a:ext cx="0" cy="380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9528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México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5029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Puerto Rico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048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Cuba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5181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Guatemala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10280" y="5638680"/>
            <a:ext cx="99072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Panamá 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4267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Honduras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6553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Costa Rica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4876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Nicaragua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214956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Republica Domini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58672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El Salvador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894560" cy="5410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1326600">
            <a:off x="4522320" y="1531440"/>
            <a:ext cx="2590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563868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3886200"/>
            <a:ext cx="25909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615000">
            <a:off x="1523520" y="194940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5257800"/>
            <a:ext cx="119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78200" y="1676520"/>
            <a:ext cx="641520" cy="244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3733920"/>
            <a:ext cx="641520" cy="244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92400" y="2041560"/>
            <a:ext cx="641520" cy="244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97520" y="3184560"/>
            <a:ext cx="641160" cy="244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2438280"/>
            <a:ext cx="641520" cy="398520"/>
          </a:xfrm>
          <a:prstGeom prst="rect">
            <a:avLst/>
          </a:prstGeom>
          <a:solidFill>
            <a:srgbClr val="386a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4520" y="4937040"/>
            <a:ext cx="641160" cy="244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971800"/>
            <a:ext cx="488880" cy="244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33000">
            <a:off x="4495680" y="4281120"/>
            <a:ext cx="457200" cy="2142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096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133360" y="25909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362320" y="34290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886200"/>
            <a:ext cx="2590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819520" y="441972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59436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5181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4197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28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99"/>
                </a:solidFill>
                <a:latin typeface="Arial"/>
              </a:rPr>
              <a:t>America del S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8520" y="182880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olo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6480" y="15238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Venez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46160" y="396252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Boli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9080" y="50292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aragu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63800" y="52578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Urugu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07160" y="60199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39320" y="426708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38280" y="34290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er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1160" y="242244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cu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219560" y="990720"/>
            <a:ext cx="4848120" cy="5438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057400" y="3809880"/>
            <a:ext cx="22096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4191120"/>
            <a:ext cx="335268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62520" y="4267080"/>
            <a:ext cx="1981080" cy="1611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>
            <a:off x="5181120" y="3657600"/>
            <a:ext cx="12193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81320" y="22824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33200" y="5715000"/>
            <a:ext cx="2343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uinea Ecua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105520" y="83772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638680" y="837720"/>
            <a:ext cx="5335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0960" y="533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e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640" y="533520"/>
            <a:ext cx="9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l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62120" y="914400"/>
            <a:ext cx="2971800" cy="2854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685440" y="3124080"/>
            <a:ext cx="114300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213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3720" y="4952880"/>
            <a:ext cx="1086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ribe las capitales de los 21 paises hispano-habl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class contract sig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1-inch soft cover b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27:04Z</dcterms:created>
  <dc:creator>Helen Zumaeta</dc:creator>
  <dc:description/>
  <dc:language>en-US</dc:language>
  <cp:lastModifiedBy>Helen Zumaeta</cp:lastModifiedBy>
  <dcterms:modified xsi:type="dcterms:W3CDTF">2012-09-13T02:42:42Z</dcterms:modified>
  <cp:revision>7</cp:revision>
  <dc:subject/>
  <dc:title>America del norte, central y el Caribe hispano</dc:title>
</cp:coreProperties>
</file>